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C30F-493D-417F-8982-890C6B60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62E4-B9C6-40F1-A76B-C72DB7F0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283A-76DC-4083-9ABC-1DA2902F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39E8-378E-413C-B363-F07E4C36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B893-53F9-43A4-B5DC-2E4D2897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9060-CEE7-48F3-856A-ADF6440B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08B1-E82A-4BB1-8301-F4F99B8B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1659-59D4-48AC-B034-E3CF43D8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E978-F7BA-4575-9F60-86E582FE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4C40-CEB9-419F-BE10-CC58F74A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BC74-4A86-4FB4-87F1-B9659116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C3F2-EE2D-457C-BB0A-ABBD57FE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2D3E-A39C-4FC4-BBB4-7312E2251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5022720" cy="5461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53800" y="209520"/>
            <a:ext cx="19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1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43280" y="836640"/>
            <a:ext cx="3673440" cy="5767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566520" y="260280"/>
            <a:ext cx="19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1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66520" y="404640"/>
            <a:ext cx="19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1.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6182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620120" cy="4486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422160" y="476280"/>
            <a:ext cx="19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1.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472360" cy="4968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66520" y="549360"/>
            <a:ext cx="19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1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494880" y="476280"/>
            <a:ext cx="19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1.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9440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94880" y="333360"/>
            <a:ext cx="19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1.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620120" cy="53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494880" y="404640"/>
            <a:ext cx="19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1.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35164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6:16:26Z</dcterms:created>
  <dc:creator> </dc:creator>
  <dc:description/>
  <dc:language>en-US</dc:language>
  <cp:lastModifiedBy> </cp:lastModifiedBy>
  <dcterms:modified xsi:type="dcterms:W3CDTF">2005-03-24T16:27:31Z</dcterms:modified>
  <cp:revision>2</cp:revision>
  <dc:subject/>
  <dc:title>Slide 1</dc:title>
</cp:coreProperties>
</file>